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3AB-35B1-4812-B746-1A3174FA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1E4-4403-45CF-BDFE-E9E5A4E7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BE3-F76F-4376-882F-4B5D626D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266-D402-4961-B409-18CD7A30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1C5-EB28-4008-B883-AEC1011D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C04-035D-40FF-AC49-3330120D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966-0013-4814-AEA3-D5422E57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EEA-FA91-4256-A4FF-EBB109D9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236-C162-41BC-AA80-54D81FF5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6FF-338C-4F69-960E-5B32C0F8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8A8-A345-4859-A868-AF65C5E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916-E7D1-475C-BDC6-CF5DA96C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FEBD-082E-4910-B67E-58552403C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and Location of National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of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tory of Park (may be bullets of paragraph. Must include when it was founded and why it is importa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of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 of Park you have cho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of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laces to vis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at least three, can add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of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que animals in the p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at least 3, can be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can experiencing nature change the way you feel about i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this question with examples from your research. May be bullets or paragraph for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23:53:37Z</dcterms:created>
  <dc:creator>Jennifer</dc:creator>
  <dc:description/>
  <dc:language>en-US</dc:language>
  <cp:lastModifiedBy>Jennifer</cp:lastModifiedBy>
  <dcterms:modified xsi:type="dcterms:W3CDTF">2013-10-09T00:08:35Z</dcterms:modified>
  <cp:revision>3</cp:revision>
  <dc:subject/>
  <dc:title>Name and Location of National Park</dc:title>
</cp:coreProperties>
</file>